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FEB-E0E7-403B-9F24-29387832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D3D-FE7C-4D3F-872F-6D7F0932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922-297B-4772-A163-BDDF9E40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8A3-A2CD-4E5F-B754-DC63DD21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3B1-0D11-4FEA-8634-9AF1AAFB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F47-2BDF-4A0A-A58C-AD34E828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6AD-C4AA-4F45-B5AD-F3F83AC0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441-D665-4A64-B4F9-4403BDC5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2AD-8ACB-4AAE-A21E-507E036A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33E-413F-45AC-A446-DC87A40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DCC-B5B4-4099-9C96-F3B6DC1C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59B-5370-4E0D-87DC-A59364C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898993-035A-43B0-8637-C6E200B2AA9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6.1.jpg"/>
          <p:cNvPicPr/>
          <p:nvPr/>
        </p:nvPicPr>
        <p:blipFill>
          <a:blip r:embed="rId1"/>
          <a:stretch/>
        </p:blipFill>
        <p:spPr>
          <a:xfrm>
            <a:off x="2425680" y="0"/>
            <a:ext cx="42904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Figure 6.2.jpg"/>
          <p:cNvPicPr/>
          <p:nvPr/>
        </p:nvPicPr>
        <p:blipFill>
          <a:blip r:embed="rId1"/>
          <a:stretch/>
        </p:blipFill>
        <p:spPr>
          <a:xfrm>
            <a:off x="2235240" y="0"/>
            <a:ext cx="46731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Table 6.1.jpg"/>
          <p:cNvPicPr/>
          <p:nvPr/>
        </p:nvPicPr>
        <p:blipFill>
          <a:blip r:embed="rId1"/>
          <a:stretch/>
        </p:blipFill>
        <p:spPr>
          <a:xfrm>
            <a:off x="1773360" y="0"/>
            <a:ext cx="5597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0:31Z</dcterms:created>
  <dc:creator>Administrator</dc:creator>
  <dc:description/>
  <dc:language>en-US</dc:language>
  <cp:lastModifiedBy>Administrator</cp:lastModifiedBy>
  <dcterms:modified xsi:type="dcterms:W3CDTF">2012-04-04T09:30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